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01AE1-3CB8-4781-AC8E-FDFCCF43D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3047760"/>
            <a:ext cx="7772400" cy="119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361400"/>
            <a:ext cx="7772400" cy="119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196C8-C755-438C-BB26-CDCEDCA9A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3047760"/>
            <a:ext cx="3792600" cy="119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3047760"/>
            <a:ext cx="3792600" cy="119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361400"/>
            <a:ext cx="3792600" cy="119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361400"/>
            <a:ext cx="3792600" cy="119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D854B-035A-4172-BD77-D1C65E0C4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3047760"/>
            <a:ext cx="2502360" cy="119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3047760"/>
            <a:ext cx="2502360" cy="119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3047760"/>
            <a:ext cx="2502360" cy="119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361400"/>
            <a:ext cx="2502360" cy="119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361400"/>
            <a:ext cx="2502360" cy="119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361400"/>
            <a:ext cx="2502360" cy="119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11072-B80C-4EA3-B29E-C76CFA52F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304776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A336F-FBF7-4FF5-A700-50A9D0E99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304776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047CD-04BD-4401-81F9-B283A6A5D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3047760"/>
            <a:ext cx="37926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3047760"/>
            <a:ext cx="37926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46230-22AD-46C7-A128-EF5861188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BDFC5-1C58-4180-B29F-3A5E9D888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EBF7C-1F81-46C6-BD8F-B292548AC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3047760"/>
            <a:ext cx="3792600" cy="119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3047760"/>
            <a:ext cx="37926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361400"/>
            <a:ext cx="3792600" cy="119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3D418-71F0-4E6F-B3E1-3E3B616A1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3047760"/>
            <a:ext cx="37926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3047760"/>
            <a:ext cx="3792600" cy="119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361400"/>
            <a:ext cx="3792600" cy="119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E7DE4-EBBD-4D7A-A79E-C3D70AB30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3047760"/>
            <a:ext cx="3792600" cy="119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3047760"/>
            <a:ext cx="3792600" cy="119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361400"/>
            <a:ext cx="7772400" cy="119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5DF0A-E90A-45C7-9FC0-4565EDD86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304776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2B1A8-1D31-40BE-9DF0-13E0B39635B9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 Proget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26920" y="321264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195640" y="2852640"/>
            <a:ext cx="4381200" cy="27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am di proget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55640" y="292392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Comune di Napoli, Assessorato alle Pari Opportunità e ai Tempi della Citt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D&amp;S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Arcidonna Napo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Dipartimento di Scienze della Comunicazione dell’Università di Saler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minar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55640" y="292392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La relazione uomo donna per prevenire la violenza di genere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Sala Pignatiello Palazzo San Giacom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12 novemb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Ore 10.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lte donne subiscono violenza da parte di familiari, conoscenti o estrane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304776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olenza fisica, sessuale, psicologica, familiare ed econom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i ISTAT 2006 (diffusi nel 2007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sul fenomeno della violenza alle donne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 Italia 6 milioni 743 mila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 donne da 16 a 70 anni vittime di violenza fisica o sessuale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l corso della vit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l 14,3% delle donne con un rapporto di coppia attuale o precedente ha subito almeno una violenza fisica o sessuale dal partner, se si considerano solo le donne con un ex partner la percentuale arriva al 17,3%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a violenza fisica è più di frequente opera dei partner (12%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lla quasi totalità dei casi le violenze non sono denunci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304776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 violenze domestiche sono in maggioranza grav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no più colpite da violenza domestica le donne il cui partner è violento anche all’esterno della famigl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7 milioni 134 mila donne 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nno subito o subiscono violenz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sicolog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304776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2 milioni 77 mila donne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hanno subito comportamenti persecutori (stalking)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1 milione 400 mila don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hanno subito violenza sessuale prima dei 16 an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690 mila don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hanno subito violenze ripetute da partner e avevano figli al momento della violen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amo partiti dai dati nazionali per capire la “scarsa significatività” dei dati a Napol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4360" y="321264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Solo 460 donne si sono rivolte a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Centro Antiviolenza “A.U.R.O.R.A.” del Comune di Napol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 questo nel Piano strategico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“Città: femminile, plurale.”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stiamo puntando anche sulla prevenzi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55640" y="342864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e garantire i livelli di sicurezza a misura di don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zioni e servizi di contrasto della violenz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lle donne e sui minor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ucare ai sentimenti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biettivo del progetto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“Sentimenti differenti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26920" y="321264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sibilizzare al tema della prevenzione chi quotidianamente affronta il problema delle violenze alle donne per far sviluppare tra loro nuove forme di collaborazio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azione di una rete territoriale per la prevenzione della violenza alle don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3514680" y="3247920"/>
            <a:ext cx="2114640" cy="21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corso formativo nelle scuo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26920" y="321264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Ragazzi e ragazze della Scuola Media “G. Gigante”, dell’I.S.I.S. “F. De Sanctis” e del I.T.C. “F. Galiani” insieme ai docenti, ai formatori ed agli esperti analizzeranno la dimensione affettiva e le relazioni tra sessi allo scopo di esplorare stereotipi e modelli culturali che agiscono nel definire ruoli e relazion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i confronteranno sulle coppie di sentimenti differenti: amore e odio, paura e desiderio, gioia e dolo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3T16:23:05Z</dcterms:created>
  <dc:creator>Antonio Prigiobbo</dc:creator>
  <dc:description/>
  <dc:language>en-US</dc:language>
  <cp:lastModifiedBy>Giuliana</cp:lastModifiedBy>
  <dcterms:modified xsi:type="dcterms:W3CDTF">2008-10-29T11:10:47Z</dcterms:modified>
  <cp:revision>14</cp:revision>
  <dc:subject/>
  <dc:title>Presentazione di PowerPoint</dc:title>
</cp:coreProperties>
</file>